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2.wmf" ContentType="image/x-wmf"/>
  <Override PartName="/ppt/media/image20.png" ContentType="image/png"/>
  <Override PartName="/ppt/media/image19.jpeg" ContentType="image/jpeg"/>
  <Override PartName="/ppt/media/image18.jpeg" ContentType="image/jpeg"/>
  <Override PartName="/ppt/media/image21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536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480" y="7362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1800" y="4673520"/>
            <a:ext cx="49514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6EAA4A-34C2-457F-B213-BA29D4B0C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7C0D23-50BB-471A-9C13-182B34A8E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9080" y="73980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see the test board with chip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scillation  problem have been almost solved by chip on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 no longer oscillations at gain lower than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B9F4E-618E-4EC7-9F2D-2E7EE6604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304-5123-423E-9DDE-F3AC39D4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D87-CDFF-4272-BD17-F117CC41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6CD-52AE-434D-AED8-D7316382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308-C5E2-4B00-AD26-771E1604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288E-AB40-42F6-8A65-C2FEBDC7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099E-0992-42CE-96D6-38C8C9F8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35B9-4CB2-40BA-A017-FBF8FC3E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85AB-D61F-4E5F-91F5-71CF6EA4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1CAD-3FDD-4F0B-8AF6-5F78FF24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DAD7-650B-4D53-B954-8D47BD4A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50BF-3B3D-4209-8C4C-0BF21AB9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5F9-4BB2-45F0-8945-AC6EE413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CA88-D952-40C7-915D-CCBBC387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A725-FF25-491A-8AF2-5E0AF33C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C20E-43BE-4B07-98B3-A7CB574B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C21F-6DC6-42B8-8986-4C8486C6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08DB-89DA-4040-91D1-6A1D3C8F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759-9327-47D2-95AA-D83FA0B5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63F-D588-414B-8492-1B1AD0AE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3C3-03E2-4936-A98C-16ED380D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A9D-16F1-4E3B-9AD5-F3305E79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53A-553A-470D-B3E9-A0433A29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B69-C027-49F7-873A-82DA2888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2D4-6349-42E9-B1C5-EBB61976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6290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6290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DD6F-6229-4FFD-8F85-C9E78832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0640"/>
            <a:ext cx="807696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5438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E7BD-5EF2-44EA-8392-9AFF7F97B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349"/>
              </a:spcBef>
              <a:buClr>
                <a:srgbClr val="3366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2p3.fr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u-psud.fr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cnrs.fr/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84872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Large area photodetection for Water Cerenkov detectors 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PMm</a:t>
            </a:r>
            <a:r>
              <a:rPr b="1" lang="fr-FR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 proposal: Front End Electronics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MAROC ASIC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8920" y="4979520"/>
            <a:ext cx="87138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Pierre BARRILLON, Sylvie BLIN, Jean-Eric CAMPAGNE, Christophe de LA TAILLE, Nathalie SEGUIN-MOREAU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LAL ORSAY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Joel POUTHAS, Bernard GENOLINI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IPNO IN2P3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67640" y="5840280"/>
            <a:ext cx="1297080" cy="75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5911920"/>
            <a:ext cx="1656000" cy="61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823000"/>
            <a:ext cx="2195640" cy="77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16360" y="5948280"/>
            <a:ext cx="1871640" cy="649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419640" y="333360"/>
            <a:ext cx="2158920" cy="2521080"/>
            <a:chOff x="3419640" y="333360"/>
            <a:chExt cx="2158920" cy="2521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23783" r="0" b="0"/>
            <a:stretch/>
          </p:blipFill>
          <p:spPr>
            <a:xfrm>
              <a:off x="3419640" y="333360"/>
              <a:ext cx="2158920" cy="216324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17508" t="12557" r="13711" b="5953"/>
            <a:stretch/>
          </p:blipFill>
          <p:spPr>
            <a:xfrm>
              <a:off x="3419640" y="333360"/>
              <a:ext cx="2155680" cy="252108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9" name="" descr=""/>
            <p:cNvPicPr/>
            <p:nvPr/>
          </p:nvPicPr>
          <p:blipFill>
            <a:blip r:embed="rId10"/>
            <a:srcRect l="16077" t="9433" r="10749" b="5617"/>
            <a:stretch/>
          </p:blipFill>
          <p:spPr>
            <a:xfrm>
              <a:off x="3419640" y="1524600"/>
              <a:ext cx="1093320" cy="13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EST BOARD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8360" y="692280"/>
            <a:ext cx="8278560" cy="5832000"/>
            <a:chOff x="468360" y="692280"/>
            <a:chExt cx="8278560" cy="58320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468360" y="692280"/>
              <a:ext cx="7019640" cy="58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080880" y="3586320"/>
              <a:ext cx="946080" cy="942840"/>
            </a:xfrm>
            <a:prstGeom prst="ellipse">
              <a:avLst/>
            </a:prstGeom>
            <a:noFill/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5660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MAROC (CO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88200" y="4496760"/>
              <a:ext cx="118656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64ch PM 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88120" y="4332600"/>
              <a:ext cx="118368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S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61800" y="1684440"/>
              <a:ext cx="118512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GPI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4748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Control Alt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CD7-4B27-4A67-81A4-B2366B9D1A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Large area photodetection requirements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559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ngle photoelectron sensitiv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xcellent time resolution ~100 p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High granular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3300"/>
                </a:solidFill>
                <a:uFillTx/>
                <a:latin typeface="Comic Sans MS"/>
              </a:rPr>
              <a:t>Low cos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rofit from progress in micro-electronics and DAQ !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Comic Sans MS"/>
              </a:rPr>
              <a:t>Many issues in common with HPD or large PMs developments by KEK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16680" y="836640"/>
            <a:ext cx="376848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4824360"/>
            <a:ext cx="2089440" cy="20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807-A886-4686-B909-445B58D769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041240" y="141300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Joël Pouthas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IPN Or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476280"/>
            <a:ext cx="23400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580000" y="1844640"/>
            <a:ext cx="3344760" cy="3960720"/>
            <a:chOff x="5580000" y="1844640"/>
            <a:chExt cx="3344760" cy="39607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rcRect l="0" t="23783" r="0" b="0"/>
            <a:stretch/>
          </p:blipFill>
          <p:spPr>
            <a:xfrm>
              <a:off x="5580000" y="1844640"/>
              <a:ext cx="3344760" cy="339876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rcRect l="17508" t="12557" r="13711" b="5953"/>
            <a:stretch/>
          </p:blipFill>
          <p:spPr>
            <a:xfrm>
              <a:off x="5580000" y="1844640"/>
              <a:ext cx="3340080" cy="396072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16077" t="9433" r="10749" b="5617"/>
            <a:stretch/>
          </p:blipFill>
          <p:spPr>
            <a:xfrm>
              <a:off x="5580000" y="3716280"/>
              <a:ext cx="169380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1116000" y="595008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grated electronics</a:t>
            </a:r>
            <a:r>
              <a:rPr b="0" lang="en-US" sz="2000" spc="-1" strike="noStrike">
                <a:solidFill>
                  <a:srgbClr val="cccc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channel, close to the PM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32000" y="4463640"/>
            <a:ext cx="5497560" cy="1846440"/>
            <a:chOff x="1332000" y="4463640"/>
            <a:chExt cx="5497560" cy="1846440"/>
          </a:xfrm>
        </p:grpSpPr>
        <p:sp>
          <p:nvSpPr>
            <p:cNvPr id="112" name=""/>
            <p:cNvSpPr/>
            <p:nvPr/>
          </p:nvSpPr>
          <p:spPr>
            <a:xfrm rot="21192000">
              <a:off x="6013080" y="4508640"/>
              <a:ext cx="789120" cy="50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332000" y="4868640"/>
              <a:ext cx="468144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332000" y="5949720"/>
              <a:ext cx="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9280" y="836640"/>
            <a:ext cx="507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Mm2” (2006 – 2009), funded by the ANR (National Agency for Researc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L Orsay, IPN Orsay, LAPP Annecy and Photo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place large PMTs (20”) by groups of smaller ones (12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entral multi-channel ASIC (MA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ommon High Voltage to redu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y one wire out (DATA + V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ater-t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get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7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9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" y="16812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R&amp;D PROGRAM FOR PM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716-7F6D-479B-A7F2-7B5FB8A17E2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765000"/>
            <a:ext cx="2808360" cy="54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M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5x5 array of 64 anodes P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958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3203640" y="3357360"/>
            <a:ext cx="1944720" cy="4330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131640" y="2060640"/>
            <a:ext cx="1871640" cy="1008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67280" y="2276640"/>
            <a:ext cx="360360" cy="27367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119700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ew extern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520" y="3933720"/>
            <a:ext cx="10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3*3 cm</a:t>
            </a:r>
            <a:r>
              <a:rPr b="1" lang="en-US" sz="1800" spc="-1" strike="noStrike" baseline="30000">
                <a:solidFill>
                  <a:srgbClr val="3366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43880" y="616572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Chip On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04000" y="828720"/>
            <a:ext cx="2736720" cy="205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300720" y="1916280"/>
            <a:ext cx="115092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227640" y="5157720"/>
            <a:ext cx="165744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35040" y="4941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MARO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360" y="45086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BOTTOM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79280" y="1363680"/>
            <a:ext cx="4103640" cy="408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784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020000" y="2997360"/>
            <a:ext cx="2124000" cy="140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401760" y="4437000"/>
            <a:ext cx="3090600" cy="2313360"/>
            <a:chOff x="401760" y="4437000"/>
            <a:chExt cx="3090600" cy="2313360"/>
          </a:xfrm>
        </p:grpSpPr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401760" y="4437000"/>
              <a:ext cx="3090600" cy="21078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1610640" y="596232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2x10x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5320" y="638208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areil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1F1-794C-46EF-BFB8-298307E1CC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24360" y="765000"/>
            <a:ext cx="34196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ilar to OPERA RO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 input impedance (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50-100 </a:t>
            </a:r>
            <a:r>
              <a:rPr b="0" lang="fr-FR" sz="1600" spc="-1" strike="noStrike">
                <a:solidFill>
                  <a:srgbClr val="ff3300"/>
                </a:solidFill>
                <a:latin typeface="Comic Sans MS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bits gain adjustment (G=0-4) per 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4 discriminator outputs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100% sensitivity to 1/3 photoelectron (50fC)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Counting rate up to 2 MH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threshold loaded by internal 10bit DAC (step 3m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multiplexed charge output with variable shaping 20-200ns and Track &amp; Hold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Dynamic range : 11 bits  (2fC - 5 p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osstalk &lt; 1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640" cy="100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32000" y="1960560"/>
            <a:ext cx="46836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86560" y="1125360"/>
            <a:ext cx="6618960" cy="3365280"/>
            <a:chOff x="2986560" y="1125360"/>
            <a:chExt cx="6618960" cy="3365280"/>
          </a:xfrm>
        </p:grpSpPr>
        <p:sp>
          <p:nvSpPr>
            <p:cNvPr id="145" name=""/>
            <p:cNvSpPr/>
            <p:nvPr/>
          </p:nvSpPr>
          <p:spPr>
            <a:xfrm>
              <a:off x="4574160" y="112536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Hold sig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3880" y="1125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275720" y="1276200"/>
              <a:ext cx="3766680" cy="2840040"/>
              <a:chOff x="4275720" y="1276200"/>
              <a:chExt cx="3766680" cy="2840040"/>
            </a:xfrm>
          </p:grpSpPr>
          <p:sp>
            <p:nvSpPr>
              <p:cNvPr id="148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  <a:lnTo>
                      <a:pt x="96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84360" y="1276200"/>
                <a:ext cx="158040" cy="2840040"/>
              </a:xfrm>
              <a:custGeom>
                <a:avLst/>
                <a:gdLst/>
                <a:ahLst/>
                <a:rect l="l" t="t" r="r" b="b"/>
                <a:pathLst>
                  <a:path w="96" h="2791">
                    <a:moveTo>
                      <a:pt x="0" y="112"/>
                    </a:moveTo>
                    <a:lnTo>
                      <a:pt x="96" y="0"/>
                    </a:lnTo>
                    <a:lnTo>
                      <a:pt x="96" y="2679"/>
                    </a:lnTo>
                    <a:lnTo>
                      <a:pt x="0" y="279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84360" y="1389960"/>
                <a:ext cx="1440" cy="27262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206520" y="2268000"/>
              <a:ext cx="930960" cy="395640"/>
              <a:chOff x="3206520" y="2268000"/>
              <a:chExt cx="930960" cy="395640"/>
            </a:xfrm>
          </p:grpSpPr>
          <p:sp>
            <p:nvSpPr>
              <p:cNvPr id="155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  <a:lnTo>
                      <a:pt x="39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86000" y="2268000"/>
                <a:ext cx="51120" cy="395640"/>
              </a:xfrm>
              <a:custGeom>
                <a:avLst/>
                <a:gdLst/>
                <a:ahLst/>
                <a:rect l="l" t="t" r="r" b="b"/>
                <a:pathLst>
                  <a:path w="38" h="277">
                    <a:moveTo>
                      <a:pt x="0" y="45"/>
                    </a:moveTo>
                    <a:lnTo>
                      <a:pt x="38" y="0"/>
                    </a:lnTo>
                    <a:lnTo>
                      <a:pt x="38" y="232"/>
                    </a:lnTo>
                    <a:lnTo>
                      <a:pt x="0" y="27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86000" y="2332080"/>
                <a:ext cx="1440" cy="3312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46040" y="2330640"/>
              <a:ext cx="9482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hotomultipli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64 channe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5240" y="243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35880" y="2059920"/>
              <a:ext cx="214560" cy="262440"/>
              <a:chOff x="3035880" y="2059920"/>
              <a:chExt cx="214560" cy="262440"/>
            </a:xfrm>
          </p:grpSpPr>
          <p:sp>
            <p:nvSpPr>
              <p:cNvPr id="164" name=""/>
              <p:cNvSpPr/>
              <p:nvPr/>
            </p:nvSpPr>
            <p:spPr>
              <a:xfrm>
                <a:off x="3035880" y="2059920"/>
                <a:ext cx="167400" cy="1306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082680" y="2190600"/>
                <a:ext cx="119880" cy="10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8000" y="2184840"/>
                <a:ext cx="172440" cy="137520"/>
              </a:xfrm>
              <a:custGeom>
                <a:avLst/>
                <a:gdLst/>
                <a:ahLst/>
                <a:rect l="l" t="t" r="r" b="b"/>
                <a:pathLst>
                  <a:path w="2736" h="1986">
                    <a:moveTo>
                      <a:pt x="115" y="21"/>
                    </a:moveTo>
                    <a:lnTo>
                      <a:pt x="2449" y="1683"/>
                    </a:lnTo>
                    <a:cubicBezTo>
                      <a:pt x="2479" y="1704"/>
                      <a:pt x="2486" y="1746"/>
                      <a:pt x="2465" y="1776"/>
                    </a:cubicBezTo>
                    <a:cubicBezTo>
                      <a:pt x="2443" y="1806"/>
                      <a:pt x="2402" y="1813"/>
                      <a:pt x="2372" y="1791"/>
                    </a:cubicBezTo>
                    <a:lnTo>
                      <a:pt x="37" y="130"/>
                    </a:lnTo>
                    <a:cubicBezTo>
                      <a:pt x="7" y="109"/>
                      <a:pt x="0" y="67"/>
                      <a:pt x="22" y="37"/>
                    </a:cubicBezTo>
                    <a:cubicBezTo>
                      <a:pt x="43" y="7"/>
                      <a:pt x="85" y="0"/>
                      <a:pt x="115" y="21"/>
                    </a:cubicBezTo>
                    <a:close/>
                    <a:moveTo>
                      <a:pt x="2534" y="1334"/>
                    </a:moveTo>
                    <a:lnTo>
                      <a:pt x="2736" y="1969"/>
                    </a:lnTo>
                    <a:lnTo>
                      <a:pt x="2070" y="1986"/>
                    </a:lnTo>
                    <a:lnTo>
                      <a:pt x="2534" y="133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035880" y="1927080"/>
              <a:ext cx="3585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6560" y="1931040"/>
              <a:ext cx="4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ot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77160" y="1931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371120" y="2111760"/>
              <a:ext cx="405720" cy="658440"/>
              <a:chOff x="4371120" y="2111760"/>
              <a:chExt cx="405720" cy="658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305600" y="2083680"/>
              <a:ext cx="4888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Variab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Ga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reamp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9560" y="23731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981320" y="1559520"/>
              <a:ext cx="723960" cy="507600"/>
              <a:chOff x="4981320" y="1559520"/>
              <a:chExt cx="723960" cy="50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981320" y="1550160"/>
              <a:ext cx="718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Slow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0-100 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580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6064200" y="1559520"/>
              <a:ext cx="529200" cy="186840"/>
              <a:chOff x="6064200" y="1559520"/>
              <a:chExt cx="529200" cy="186840"/>
            </a:xfrm>
          </p:grpSpPr>
          <p:sp>
            <p:nvSpPr>
              <p:cNvPr id="181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195240" y="159264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5516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85280" y="2426400"/>
              <a:ext cx="285840" cy="54360"/>
            </a:xfrm>
            <a:custGeom>
              <a:avLst/>
              <a:gdLst/>
              <a:ahLst/>
              <a:rect l="l" t="t" r="r" b="b"/>
              <a:pathLst>
                <a:path w="237" h="48">
                  <a:moveTo>
                    <a:pt x="0" y="18"/>
                  </a:moveTo>
                  <a:lnTo>
                    <a:pt x="202" y="18"/>
                  </a:lnTo>
                  <a:lnTo>
                    <a:pt x="202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95" y="0"/>
                  </a:moveTo>
                  <a:lnTo>
                    <a:pt x="237" y="24"/>
                  </a:lnTo>
                  <a:lnTo>
                    <a:pt x="195" y="4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990680" y="2282760"/>
              <a:ext cx="714600" cy="314640"/>
              <a:chOff x="4990680" y="2282760"/>
              <a:chExt cx="714600" cy="314640"/>
            </a:xfrm>
          </p:grpSpPr>
          <p:sp>
            <p:nvSpPr>
              <p:cNvPr id="187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981320" y="2274840"/>
              <a:ext cx="737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Bip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5960" y="2441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81320" y="2998800"/>
              <a:ext cx="714600" cy="5479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Unipol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064200" y="2325240"/>
              <a:ext cx="357120" cy="252000"/>
              <a:chOff x="6064200" y="2325240"/>
              <a:chExt cx="357120" cy="252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6064200" y="2325240"/>
                <a:ext cx="357120" cy="252000"/>
                <a:chOff x="6064200" y="2325240"/>
                <a:chExt cx="357120" cy="2520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14960" y="2368440"/>
                <a:ext cx="203400" cy="156240"/>
                <a:chOff x="6114960" y="2368440"/>
                <a:chExt cx="203400" cy="156240"/>
              </a:xfrm>
            </p:grpSpPr>
            <p:sp>
              <p:nvSpPr>
                <p:cNvPr id="197" name=""/>
                <p:cNvSpPr/>
                <p:nvPr/>
              </p:nvSpPr>
              <p:spPr>
                <a:xfrm flipV="1">
                  <a:off x="6114960" y="2524320"/>
                  <a:ext cx="102240" cy="3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6217200" y="2368440"/>
                  <a:ext cx="1080" cy="1562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217200" y="2368440"/>
                  <a:ext cx="10116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6064200" y="3017160"/>
              <a:ext cx="357120" cy="240480"/>
              <a:chOff x="6064200" y="3017160"/>
              <a:chExt cx="357120" cy="2404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064200" y="3017160"/>
                <a:ext cx="357120" cy="240480"/>
                <a:chOff x="6064200" y="3017160"/>
                <a:chExt cx="357120" cy="240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114960" y="3058200"/>
                <a:ext cx="203400" cy="149760"/>
                <a:chOff x="6114960" y="3058200"/>
                <a:chExt cx="203400" cy="14976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6114960" y="3207240"/>
                  <a:ext cx="10224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217200" y="3058200"/>
                  <a:ext cx="1080" cy="149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17200" y="3058200"/>
                  <a:ext cx="10116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4777200" y="1625760"/>
              <a:ext cx="213480" cy="820440"/>
            </a:xfrm>
            <a:custGeom>
              <a:avLst/>
              <a:gdLst/>
              <a:ahLst/>
              <a:rect l="l" t="t" r="r" b="b"/>
              <a:pathLst>
                <a:path w="177" h="721">
                  <a:moveTo>
                    <a:pt x="0" y="709"/>
                  </a:moveTo>
                  <a:lnTo>
                    <a:pt x="89" y="709"/>
                  </a:lnTo>
                  <a:lnTo>
                    <a:pt x="83" y="715"/>
                  </a:lnTo>
                  <a:lnTo>
                    <a:pt x="83" y="18"/>
                  </a:lnTo>
                  <a:lnTo>
                    <a:pt x="143" y="18"/>
                  </a:lnTo>
                  <a:lnTo>
                    <a:pt x="143" y="31"/>
                  </a:lnTo>
                  <a:lnTo>
                    <a:pt x="89" y="31"/>
                  </a:lnTo>
                  <a:lnTo>
                    <a:pt x="94" y="25"/>
                  </a:lnTo>
                  <a:lnTo>
                    <a:pt x="94" y="721"/>
                  </a:lnTo>
                  <a:lnTo>
                    <a:pt x="0" y="721"/>
                  </a:lnTo>
                  <a:lnTo>
                    <a:pt x="0" y="709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7200" y="2413080"/>
              <a:ext cx="213480" cy="55440"/>
            </a:xfrm>
            <a:custGeom>
              <a:avLst/>
              <a:gdLst/>
              <a:ahLst/>
              <a:rect l="l" t="t" r="r" b="b"/>
              <a:pathLst>
                <a:path w="177" h="49">
                  <a:moveTo>
                    <a:pt x="0" y="18"/>
                  </a:moveTo>
                  <a:lnTo>
                    <a:pt x="143" y="19"/>
                  </a:lnTo>
                  <a:lnTo>
                    <a:pt x="143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77200" y="2432880"/>
              <a:ext cx="213480" cy="732600"/>
            </a:xfrm>
            <a:custGeom>
              <a:avLst/>
              <a:gdLst/>
              <a:ahLst/>
              <a:rect l="l" t="t" r="r" b="b"/>
              <a:pathLst>
                <a:path w="177" h="643">
                  <a:moveTo>
                    <a:pt x="0" y="0"/>
                  </a:moveTo>
                  <a:lnTo>
                    <a:pt x="94" y="0"/>
                  </a:lnTo>
                  <a:lnTo>
                    <a:pt x="94" y="618"/>
                  </a:lnTo>
                  <a:lnTo>
                    <a:pt x="89" y="612"/>
                  </a:lnTo>
                  <a:lnTo>
                    <a:pt x="143" y="612"/>
                  </a:lnTo>
                  <a:lnTo>
                    <a:pt x="143" y="624"/>
                  </a:lnTo>
                  <a:lnTo>
                    <a:pt x="83" y="624"/>
                  </a:lnTo>
                  <a:lnTo>
                    <a:pt x="83" y="6"/>
                  </a:lnTo>
                  <a:lnTo>
                    <a:pt x="89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136" y="594"/>
                  </a:moveTo>
                  <a:lnTo>
                    <a:pt x="177" y="618"/>
                  </a:lnTo>
                  <a:lnTo>
                    <a:pt x="136" y="643"/>
                  </a:lnTo>
                  <a:lnTo>
                    <a:pt x="136" y="5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05280" y="1626840"/>
              <a:ext cx="358560" cy="5436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8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5280" y="241308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7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7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5280" y="311004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9">
                  <a:moveTo>
                    <a:pt x="0" y="18"/>
                  </a:moveTo>
                  <a:lnTo>
                    <a:pt x="261" y="19"/>
                  </a:lnTo>
                  <a:lnTo>
                    <a:pt x="261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5"/>
                  </a:lnTo>
                  <a:lnTo>
                    <a:pt x="254" y="4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5280" y="3129840"/>
              <a:ext cx="358560" cy="69192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705280" y="2428200"/>
              <a:ext cx="342720" cy="700920"/>
            </a:xfrm>
            <a:custGeom>
              <a:avLst/>
              <a:gdLst/>
              <a:ahLst/>
              <a:rect l="l" t="t" r="r" b="b"/>
              <a:pathLst>
                <a:path w="296" h="994">
                  <a:moveTo>
                    <a:pt x="0" y="0"/>
                  </a:moveTo>
                  <a:lnTo>
                    <a:pt x="153" y="0"/>
                  </a:lnTo>
                  <a:lnTo>
                    <a:pt x="153" y="970"/>
                  </a:lnTo>
                  <a:lnTo>
                    <a:pt x="148" y="964"/>
                  </a:lnTo>
                  <a:lnTo>
                    <a:pt x="261" y="964"/>
                  </a:lnTo>
                  <a:lnTo>
                    <a:pt x="261" y="976"/>
                  </a:lnTo>
                  <a:lnTo>
                    <a:pt x="143" y="976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946"/>
                  </a:moveTo>
                  <a:lnTo>
                    <a:pt x="296" y="970"/>
                  </a:lnTo>
                  <a:lnTo>
                    <a:pt x="254" y="994"/>
                  </a:lnTo>
                  <a:lnTo>
                    <a:pt x="254" y="9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20240" y="2441160"/>
              <a:ext cx="294120" cy="696960"/>
            </a:xfrm>
            <a:custGeom>
              <a:avLst/>
              <a:gdLst/>
              <a:ahLst/>
              <a:rect l="l" t="t" r="r" b="b"/>
              <a:pathLst>
                <a:path w="270" h="612">
                  <a:moveTo>
                    <a:pt x="0" y="0"/>
                  </a:moveTo>
                  <a:lnTo>
                    <a:pt x="270" y="0"/>
                  </a:lnTo>
                  <a:lnTo>
                    <a:pt x="270" y="612"/>
                  </a:lnTo>
                  <a:lnTo>
                    <a:pt x="0" y="61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20240" y="3139200"/>
              <a:ext cx="294120" cy="770040"/>
            </a:xfrm>
            <a:custGeom>
              <a:avLst/>
              <a:gdLst/>
              <a:ahLst/>
              <a:rect l="l" t="t" r="r" b="b"/>
              <a:pathLst>
                <a:path w="125" h="677">
                  <a:moveTo>
                    <a:pt x="0" y="0"/>
                  </a:moveTo>
                  <a:lnTo>
                    <a:pt x="125" y="0"/>
                  </a:lnTo>
                  <a:lnTo>
                    <a:pt x="125" y="677"/>
                  </a:lnTo>
                  <a:lnTo>
                    <a:pt x="1" y="67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9960" y="3136680"/>
              <a:ext cx="443160" cy="53280"/>
            </a:xfrm>
            <a:custGeom>
              <a:avLst/>
              <a:gdLst/>
              <a:ahLst/>
              <a:rect l="l" t="t" r="r" b="b"/>
              <a:pathLst>
                <a:path w="280" h="49">
                  <a:moveTo>
                    <a:pt x="0" y="18"/>
                  </a:moveTo>
                  <a:lnTo>
                    <a:pt x="245" y="19"/>
                  </a:lnTo>
                  <a:lnTo>
                    <a:pt x="245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38" y="0"/>
                  </a:moveTo>
                  <a:lnTo>
                    <a:pt x="280" y="25"/>
                  </a:lnTo>
                  <a:lnTo>
                    <a:pt x="238" y="4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93400" y="1607040"/>
              <a:ext cx="1610640" cy="8064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70800" y="3050280"/>
              <a:ext cx="1219680" cy="396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Gain corr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64*6bi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3360" y="3102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9600" y="3240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9560" y="2770200"/>
              <a:ext cx="468720" cy="467280"/>
            </a:xfrm>
            <a:custGeom>
              <a:avLst/>
              <a:gdLst/>
              <a:ahLst/>
              <a:rect l="l" t="t" r="r" b="b"/>
              <a:pathLst>
                <a:path w="7500" h="6773">
                  <a:moveTo>
                    <a:pt x="67" y="6640"/>
                  </a:moveTo>
                  <a:lnTo>
                    <a:pt x="7100" y="6640"/>
                  </a:lnTo>
                  <a:lnTo>
                    <a:pt x="7033" y="6706"/>
                  </a:lnTo>
                  <a:lnTo>
                    <a:pt x="7033" y="666"/>
                  </a:lnTo>
                  <a:cubicBezTo>
                    <a:pt x="7033" y="630"/>
                    <a:pt x="7063" y="600"/>
                    <a:pt x="7100" y="600"/>
                  </a:cubicBezTo>
                  <a:cubicBezTo>
                    <a:pt x="7137" y="600"/>
                    <a:pt x="7167" y="630"/>
                    <a:pt x="7167" y="666"/>
                  </a:cubicBezTo>
                  <a:lnTo>
                    <a:pt x="7167" y="6706"/>
                  </a:lnTo>
                  <a:cubicBezTo>
                    <a:pt x="7167" y="6743"/>
                    <a:pt x="7137" y="6773"/>
                    <a:pt x="7100" y="6773"/>
                  </a:cubicBezTo>
                  <a:lnTo>
                    <a:pt x="67" y="6773"/>
                  </a:lnTo>
                  <a:cubicBezTo>
                    <a:pt x="30" y="6773"/>
                    <a:pt x="0" y="6743"/>
                    <a:pt x="0" y="6706"/>
                  </a:cubicBezTo>
                  <a:cubicBezTo>
                    <a:pt x="0" y="6670"/>
                    <a:pt x="30" y="6640"/>
                    <a:pt x="67" y="6640"/>
                  </a:cubicBezTo>
                  <a:close/>
                  <a:moveTo>
                    <a:pt x="6700" y="800"/>
                  </a:moveTo>
                  <a:lnTo>
                    <a:pt x="7100" y="0"/>
                  </a:lnTo>
                  <a:lnTo>
                    <a:pt x="7500" y="800"/>
                  </a:lnTo>
                  <a:lnTo>
                    <a:pt x="6700" y="8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1160" y="1187640"/>
              <a:ext cx="1032840" cy="371520"/>
            </a:xfrm>
            <a:custGeom>
              <a:avLst/>
              <a:gdLst/>
              <a:ahLst/>
              <a:rect l="l" t="t" r="r" b="b"/>
              <a:pathLst>
                <a:path w="8236" h="2687">
                  <a:moveTo>
                    <a:pt x="33" y="0"/>
                  </a:moveTo>
                  <a:lnTo>
                    <a:pt x="8036" y="0"/>
                  </a:lnTo>
                  <a:cubicBezTo>
                    <a:pt x="8055" y="0"/>
                    <a:pt x="8070" y="15"/>
                    <a:pt x="8070" y="34"/>
                  </a:cubicBezTo>
                  <a:lnTo>
                    <a:pt x="8070" y="2354"/>
                  </a:lnTo>
                  <a:cubicBezTo>
                    <a:pt x="8070" y="2372"/>
                    <a:pt x="8055" y="2387"/>
                    <a:pt x="8036" y="2387"/>
                  </a:cubicBezTo>
                  <a:cubicBezTo>
                    <a:pt x="8018" y="2387"/>
                    <a:pt x="8003" y="2372"/>
                    <a:pt x="8003" y="2354"/>
                  </a:cubicBezTo>
                  <a:lnTo>
                    <a:pt x="8003" y="34"/>
                  </a:lnTo>
                  <a:lnTo>
                    <a:pt x="8036" y="67"/>
                  </a:lnTo>
                  <a:lnTo>
                    <a:pt x="33" y="67"/>
                  </a:lnTo>
                  <a:cubicBezTo>
                    <a:pt x="15" y="67"/>
                    <a:pt x="0" y="52"/>
                    <a:pt x="0" y="34"/>
                  </a:cubicBezTo>
                  <a:cubicBezTo>
                    <a:pt x="0" y="15"/>
                    <a:pt x="15" y="0"/>
                    <a:pt x="33" y="0"/>
                  </a:cubicBezTo>
                  <a:close/>
                  <a:moveTo>
                    <a:pt x="8236" y="2287"/>
                  </a:moveTo>
                  <a:lnTo>
                    <a:pt x="8036" y="2687"/>
                  </a:lnTo>
                  <a:lnTo>
                    <a:pt x="7836" y="2287"/>
                  </a:lnTo>
                  <a:lnTo>
                    <a:pt x="8236" y="228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26680" y="3820320"/>
              <a:ext cx="875880" cy="594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3 discri thresholds (3*12 bi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41040" y="13654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nalog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6480" y="1637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2640" y="3507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531120" y="29365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4148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6294960" y="2514960"/>
              <a:ext cx="4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6178680" y="2426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60627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59432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582120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57045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11960" y="4242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49600" y="430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6048000" y="3718080"/>
              <a:ext cx="381240" cy="220320"/>
              <a:chOff x="6048000" y="3718080"/>
              <a:chExt cx="381240" cy="2203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6048000" y="3718080"/>
                <a:ext cx="381240" cy="220320"/>
                <a:chOff x="6048000" y="3718080"/>
                <a:chExt cx="381240" cy="22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102360" y="3755160"/>
                <a:ext cx="217440" cy="137160"/>
                <a:chOff x="6102360" y="3755160"/>
                <a:chExt cx="217440" cy="137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102360" y="389124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6211080" y="3755160"/>
                  <a:ext cx="1080" cy="136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211080" y="375516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" name=""/>
            <p:cNvSpPr/>
            <p:nvPr/>
          </p:nvSpPr>
          <p:spPr>
            <a:xfrm>
              <a:off x="6078960" y="3963960"/>
              <a:ext cx="27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LUCI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048000" y="1881720"/>
              <a:ext cx="529200" cy="185760"/>
              <a:chOff x="6048000" y="1881720"/>
              <a:chExt cx="529200" cy="185760"/>
            </a:xfrm>
          </p:grpSpPr>
          <p:sp>
            <p:nvSpPr>
              <p:cNvPr id="249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180480" y="19126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7520" y="1654920"/>
              <a:ext cx="35712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44960" y="3654360"/>
              <a:ext cx="713520" cy="365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3 DA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2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8520" y="2994480"/>
              <a:ext cx="711720" cy="36540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 MHz enco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8520" y="1929600"/>
              <a:ext cx="711720" cy="73044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 Wilkinson 12 bit 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7080" y="2049120"/>
              <a:ext cx="667800" cy="5832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91520" y="1739880"/>
              <a:ext cx="35856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82000" y="2871000"/>
              <a:ext cx="1523520" cy="730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64 trigger outputs (to FPG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800" y="3756960"/>
              <a:ext cx="835560" cy="5148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158240" y="2630520"/>
              <a:ext cx="284040" cy="145800"/>
              <a:chOff x="7158240" y="2630520"/>
              <a:chExt cx="284040" cy="14580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7180920" y="2664360"/>
                <a:ext cx="227520" cy="111960"/>
                <a:chOff x="7180920" y="2664360"/>
                <a:chExt cx="227520" cy="111960"/>
              </a:xfrm>
            </p:grpSpPr>
            <p:sp>
              <p:nvSpPr>
                <p:cNvPr id="262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noFill/>
                <a:ln cap="rnd" w="1584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7158240" y="2720520"/>
                <a:ext cx="103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261560" y="2630520"/>
                <a:ext cx="84960" cy="9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41480" y="2719440"/>
                <a:ext cx="100800" cy="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H="1">
              <a:off x="6714000" y="2724840"/>
              <a:ext cx="44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434000" y="2724840"/>
              <a:ext cx="276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11200" y="2724840"/>
              <a:ext cx="0" cy="46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1040" y="20278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Digital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5400" y="2104920"/>
              <a:ext cx="772200" cy="182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input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F06-F29C-4952-B8B7-33941E881C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3048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eam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Fast shaper 15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crimina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low sh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Track&amp;Ho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2bit AD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bit D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angap ref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gital format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licon Germanium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0.35µm BiCM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6mm2 ar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40216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58B-7116-4226-BF36-A21995CEE8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ARO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711600" cy="2385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176720" cy="2506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4211640" cy="2597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4127400" cy="25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1C1-4D69-4D3B-8A3A-7BCF287029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D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6156360" cy="3456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261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Wilkinson typ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2 bit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80 µs conversion tim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987640" y="4114800"/>
            <a:ext cx="6156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E2C-66D5-4BA1-9277-0BC9073F73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ONCLUSION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511164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ROC2 fullfills most of the requirements of 2 km WC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mature, used in ATLAS luminomet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 be done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me dizitization (100 psTD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out “on power wire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 on a prototype (16 PMs, 8’’) with MAROC2 foreseen shortly at IP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int activities with KEK 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s  at KEK by Tanaka-s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ASIC development : TDC, ADC, DAQ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 preamp for HP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zation of common par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651640" y="3213000"/>
            <a:ext cx="2976480" cy="3384720"/>
            <a:chOff x="5651640" y="3213000"/>
            <a:chExt cx="2976480" cy="33847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rcRect l="16077" t="15312" r="15482" b="11430"/>
            <a:stretch/>
          </p:blipFill>
          <p:spPr>
            <a:xfrm>
              <a:off x="5651640" y="3213000"/>
              <a:ext cx="29764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659640" y="4653000"/>
              <a:ext cx="1081080" cy="5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25920" cy="2719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692600" y="4962600"/>
            <a:ext cx="1471680" cy="170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472-BE86-4157-AFED-6EBD860CAB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09:27:03Z</dcterms:created>
  <dc:creator>N. Seguin-Moreau</dc:creator>
  <dc:description/>
  <dc:language>en-US</dc:language>
  <cp:lastModifiedBy>taille</cp:lastModifiedBy>
  <cp:lastPrinted>2000-09-07T15:05:17Z</cp:lastPrinted>
  <dcterms:modified xsi:type="dcterms:W3CDTF">2007-05-08T08:50:13Z</dcterms:modified>
  <cp:revision>419</cp:revision>
  <dc:subject>Phone meeting</dc:subject>
  <dc:title>ATLAS Luminometry</dc:title>
</cp:coreProperties>
</file>